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57F-852E-49D3-BD51-E65B684E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09D-54B3-456E-BF3F-41F42FD1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536-F1CA-49B7-88B9-A6DCDE47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254-D5C7-4111-8E92-5B123103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6964-57FB-43B7-80CD-B203D365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55A0-FC19-4CBF-8C82-34F0719F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4D82-9770-47F6-B106-CF89A43D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EC65-DCAF-4010-A6D6-83DC4CFF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EB59-6A65-4359-A086-E2C40052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A85A-121B-4573-A0BF-8598041F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6B9D-0F14-4397-A373-191483AE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DB2-85E3-4D83-90BE-D9740951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AB53-0492-435B-8676-2380E28D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7183-8837-466C-936C-3990E342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171E-088D-4C39-A50A-62A50F63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13B6-235E-4BC3-8575-8A00CFBA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5170-976C-4149-948F-B855B99E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B68-2273-41FB-A839-BF02274B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0CD-374B-4608-B5D8-8BA7EB00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7B2-DEA7-4064-A423-EFE821A8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FAA-B1B0-424B-9660-E0A63153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E95-3C13-47A2-B347-81418FC1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8A8-A785-47AE-A807-8CEFA306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62F-B308-4B81-9012-3F048FB2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6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2971800" y="61722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© 2000 by Monica Yuskait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9CEC-64B4-4C16-95EA-C0598C15F449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6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1FA7-40E9-4FDA-A5E2-E960BD480B01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Quadrilaterals I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43792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by Monica Yuskaitis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981080" y="3352680"/>
            <a:ext cx="3276720" cy="2514600"/>
          </a:xfrm>
          <a:custGeom>
            <a:avLst/>
            <a:gdLst>
              <a:gd name="textAreaLeft" fmla="*/ 720360 w 3276720"/>
              <a:gd name="textAreaRight" fmla="*/ 2556360 w 3276720"/>
              <a:gd name="textAreaTop" fmla="*/ 552960 h 2514600"/>
              <a:gd name="textAreaBottom" fmla="*/ 19616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Property of Quadrilaterals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The sum of all the angles equals 360º degrees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4" name=""/>
          <p:cNvSpPr/>
          <p:nvPr/>
        </p:nvSpPr>
        <p:spPr>
          <a:xfrm>
            <a:off x="1591920" y="5249160"/>
            <a:ext cx="1692360" cy="12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13" y="153"/>
                </a:moveTo>
                <a:arcTo wR="10800" hR="10800" stAng="-4820065" swAng="4796468"/>
                <a:lnTo>
                  <a:pt x="10800" y="10800"/>
                </a:lnTo>
                <a:close/>
              </a:path>
              <a:path fill="none" w="21600" h="21600">
                <a:moveTo>
                  <a:pt x="12613" y="153"/>
                </a:moveTo>
                <a:arcTo wR="10800" hR="10800" stAng="-4820065" swAng="4796468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5" name=""/>
          <p:cNvSpPr/>
          <p:nvPr/>
        </p:nvSpPr>
        <p:spPr>
          <a:xfrm flipH="1" rot="10800000">
            <a:off x="1700280" y="2836080"/>
            <a:ext cx="115812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34" y="53"/>
                </a:moveTo>
                <a:arcTo wR="10800" hR="10800" stAng="-5739980" swAng="6259784"/>
                <a:lnTo>
                  <a:pt x="10800" y="10800"/>
                </a:lnTo>
                <a:close/>
              </a:path>
              <a:path fill="none" w="21600" h="21600">
                <a:moveTo>
                  <a:pt x="9734" y="53"/>
                </a:moveTo>
                <a:arcTo wR="10800" hR="10800" stAng="-5739980" swAng="6259784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6" name=""/>
          <p:cNvSpPr/>
          <p:nvPr/>
        </p:nvSpPr>
        <p:spPr>
          <a:xfrm flipH="1" rot="16200000">
            <a:off x="4381200" y="2958840"/>
            <a:ext cx="1158840" cy="10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3963600" y="5256000"/>
            <a:ext cx="1371240" cy="122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8" y="1"/>
                </a:moveTo>
                <a:arcTo wR="10800" hR="10800" stAng="-5362583" swAng="5371104"/>
                <a:lnTo>
                  <a:pt x="10800" y="10800"/>
                </a:lnTo>
                <a:close/>
              </a:path>
              <a:path fill="none" w="21600" h="21600">
                <a:moveTo>
                  <a:pt x="10918" y="1"/>
                </a:moveTo>
                <a:arcTo wR="10800" hR="10800" stAng="-5362583" swAng="5371104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8" name=""/>
          <p:cNvSpPr/>
          <p:nvPr/>
        </p:nvSpPr>
        <p:spPr>
          <a:xfrm>
            <a:off x="2515680" y="385920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0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9" name=""/>
          <p:cNvSpPr/>
          <p:nvPr/>
        </p:nvSpPr>
        <p:spPr>
          <a:xfrm>
            <a:off x="2515680" y="4648320"/>
            <a:ext cx="11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10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3811320" y="385920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0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1" name=""/>
          <p:cNvSpPr/>
          <p:nvPr/>
        </p:nvSpPr>
        <p:spPr>
          <a:xfrm>
            <a:off x="3582360" y="4648320"/>
            <a:ext cx="11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10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28954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7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34290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7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396252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1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449568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1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6" name=""/>
          <p:cNvSpPr/>
          <p:nvPr/>
        </p:nvSpPr>
        <p:spPr>
          <a:xfrm>
            <a:off x="5791320" y="5181480"/>
            <a:ext cx="15238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7" name=""/>
          <p:cNvSpPr/>
          <p:nvPr/>
        </p:nvSpPr>
        <p:spPr>
          <a:xfrm>
            <a:off x="5716080" y="45720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8" name=""/>
          <p:cNvSpPr/>
          <p:nvPr/>
        </p:nvSpPr>
        <p:spPr>
          <a:xfrm>
            <a:off x="6095880" y="5105520"/>
            <a:ext cx="11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828800" y="3352680"/>
            <a:ext cx="3581280" cy="2286000"/>
          </a:xfrm>
          <a:prstGeom prst="parallelogram">
            <a:avLst>
              <a:gd name="adj" fmla="val 39165"/>
            </a:avLst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Property of Quadrilaterals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The sum of all the angles equals 360º degrees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2" name=""/>
          <p:cNvSpPr/>
          <p:nvPr/>
        </p:nvSpPr>
        <p:spPr>
          <a:xfrm flipH="1" rot="17487000">
            <a:off x="4704120" y="2994120"/>
            <a:ext cx="1158120" cy="108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14" y="2"/>
                </a:moveTo>
                <a:arcTo wR="10800" hR="10800" stAng="-5331810" swAng="5851613"/>
                <a:lnTo>
                  <a:pt x="10800" y="10800"/>
                </a:lnTo>
                <a:close/>
              </a:path>
              <a:path fill="none" w="21600" h="21600">
                <a:moveTo>
                  <a:pt x="11014" y="2"/>
                </a:moveTo>
                <a:arcTo wR="10800" hR="10800" stAng="-5331810" swAng="5851613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3" name=""/>
          <p:cNvSpPr/>
          <p:nvPr/>
        </p:nvSpPr>
        <p:spPr>
          <a:xfrm rot="17179800">
            <a:off x="3854880" y="5175360"/>
            <a:ext cx="1371240" cy="122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8" y="1"/>
                </a:moveTo>
                <a:arcTo wR="10800" hR="10800" stAng="-5362583" swAng="5371104"/>
                <a:lnTo>
                  <a:pt x="10800" y="10800"/>
                </a:lnTo>
                <a:close/>
              </a:path>
              <a:path fill="none" w="21600" h="21600">
                <a:moveTo>
                  <a:pt x="10918" y="1"/>
                </a:moveTo>
                <a:arcTo wR="10800" hR="10800" stAng="-5362583" swAng="5371104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4" name=""/>
          <p:cNvSpPr/>
          <p:nvPr/>
        </p:nvSpPr>
        <p:spPr>
          <a:xfrm>
            <a:off x="4039920" y="365760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65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5" name=""/>
          <p:cNvSpPr/>
          <p:nvPr/>
        </p:nvSpPr>
        <p:spPr>
          <a:xfrm>
            <a:off x="3353760" y="4648320"/>
            <a:ext cx="11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15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6" name=""/>
          <p:cNvSpPr/>
          <p:nvPr/>
        </p:nvSpPr>
        <p:spPr>
          <a:xfrm>
            <a:off x="2439720" y="464832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65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7" name=""/>
          <p:cNvSpPr/>
          <p:nvPr/>
        </p:nvSpPr>
        <p:spPr>
          <a:xfrm>
            <a:off x="2896560" y="3657600"/>
            <a:ext cx="11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15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8" name=""/>
          <p:cNvSpPr/>
          <p:nvPr/>
        </p:nvSpPr>
        <p:spPr>
          <a:xfrm>
            <a:off x="6400800" y="28954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65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9" name=""/>
          <p:cNvSpPr/>
          <p:nvPr/>
        </p:nvSpPr>
        <p:spPr>
          <a:xfrm>
            <a:off x="6400800" y="3429000"/>
            <a:ext cx="91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65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396252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15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1" name=""/>
          <p:cNvSpPr/>
          <p:nvPr/>
        </p:nvSpPr>
        <p:spPr>
          <a:xfrm>
            <a:off x="6095880" y="449568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15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5181480"/>
            <a:ext cx="15238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3" name=""/>
          <p:cNvSpPr/>
          <p:nvPr/>
        </p:nvSpPr>
        <p:spPr>
          <a:xfrm>
            <a:off x="5716080" y="45720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4" name=""/>
          <p:cNvSpPr/>
          <p:nvPr/>
        </p:nvSpPr>
        <p:spPr>
          <a:xfrm>
            <a:off x="6095880" y="510552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5" name=""/>
          <p:cNvSpPr/>
          <p:nvPr/>
        </p:nvSpPr>
        <p:spPr>
          <a:xfrm flipH="1" rot="6687000">
            <a:off x="1392840" y="4885200"/>
            <a:ext cx="1158840" cy="10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14" y="2"/>
                </a:moveTo>
                <a:arcTo wR="10800" hR="10800" stAng="-5331810" swAng="5851613"/>
                <a:lnTo>
                  <a:pt x="10800" y="10800"/>
                </a:lnTo>
                <a:close/>
              </a:path>
              <a:path fill="none" w="21600" h="21600">
                <a:moveTo>
                  <a:pt x="11014" y="2"/>
                </a:moveTo>
                <a:arcTo wR="10800" hR="10800" stAng="-5331810" swAng="5851613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6" name=""/>
          <p:cNvSpPr/>
          <p:nvPr/>
        </p:nvSpPr>
        <p:spPr>
          <a:xfrm rot="6379800">
            <a:off x="2004480" y="2659320"/>
            <a:ext cx="1372680" cy="122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92" y="79"/>
                </a:moveTo>
                <a:arcTo wR="10800" hR="10800" stAng="-5817324" swAng="5825845"/>
                <a:lnTo>
                  <a:pt x="10800" y="10800"/>
                </a:lnTo>
                <a:close/>
              </a:path>
              <a:path fill="none" w="21600" h="21600">
                <a:moveTo>
                  <a:pt x="9492" y="79"/>
                </a:moveTo>
                <a:arcTo wR="10800" hR="10800" stAng="-5817324" swAng="582584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What is the missing angle?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2362320"/>
            <a:ext cx="4572000" cy="251460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9" name=""/>
          <p:cNvSpPr/>
          <p:nvPr/>
        </p:nvSpPr>
        <p:spPr>
          <a:xfrm>
            <a:off x="1162440" y="4267080"/>
            <a:ext cx="128340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0" name=""/>
          <p:cNvSpPr/>
          <p:nvPr/>
        </p:nvSpPr>
        <p:spPr>
          <a:xfrm flipH="1" rot="10800000">
            <a:off x="1346040" y="1846080"/>
            <a:ext cx="1088280" cy="12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1" name=""/>
          <p:cNvSpPr/>
          <p:nvPr/>
        </p:nvSpPr>
        <p:spPr>
          <a:xfrm flipH="1" rot="16200000">
            <a:off x="5673600" y="1940400"/>
            <a:ext cx="1158120" cy="113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2" name=""/>
          <p:cNvSpPr/>
          <p:nvPr/>
        </p:nvSpPr>
        <p:spPr>
          <a:xfrm rot="16200000">
            <a:off x="5638320" y="4229280"/>
            <a:ext cx="1371240" cy="114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3" name=""/>
          <p:cNvSpPr/>
          <p:nvPr/>
        </p:nvSpPr>
        <p:spPr>
          <a:xfrm>
            <a:off x="2362320" y="26668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4" name=""/>
          <p:cNvSpPr/>
          <p:nvPr/>
        </p:nvSpPr>
        <p:spPr>
          <a:xfrm>
            <a:off x="2362320" y="38098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5" name=""/>
          <p:cNvSpPr/>
          <p:nvPr/>
        </p:nvSpPr>
        <p:spPr>
          <a:xfrm>
            <a:off x="4935600" y="26668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6" name=""/>
          <p:cNvSpPr/>
          <p:nvPr/>
        </p:nvSpPr>
        <p:spPr>
          <a:xfrm>
            <a:off x="5106600" y="38862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7" name=""/>
          <p:cNvSpPr/>
          <p:nvPr/>
        </p:nvSpPr>
        <p:spPr>
          <a:xfrm>
            <a:off x="6918480" y="223344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7432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9" name=""/>
          <p:cNvSpPr/>
          <p:nvPr/>
        </p:nvSpPr>
        <p:spPr>
          <a:xfrm>
            <a:off x="6950160" y="325296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0" name=""/>
          <p:cNvSpPr/>
          <p:nvPr/>
        </p:nvSpPr>
        <p:spPr>
          <a:xfrm>
            <a:off x="7240320" y="37339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1" name=""/>
          <p:cNvSpPr/>
          <p:nvPr/>
        </p:nvSpPr>
        <p:spPr>
          <a:xfrm>
            <a:off x="6705360" y="434340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4343400"/>
            <a:ext cx="1143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3" name=""/>
          <p:cNvSpPr/>
          <p:nvPr/>
        </p:nvSpPr>
        <p:spPr>
          <a:xfrm>
            <a:off x="6554520" y="37339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057400" y="2743200"/>
            <a:ext cx="3276720" cy="2514600"/>
          </a:xfrm>
          <a:custGeom>
            <a:avLst/>
            <a:gdLst>
              <a:gd name="textAreaLeft" fmla="*/ 720360 w 3276720"/>
              <a:gd name="textAreaRight" fmla="*/ 2556360 w 3276720"/>
              <a:gd name="textAreaTop" fmla="*/ 552960 h 2514600"/>
              <a:gd name="textAreaBottom" fmla="*/ 19616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What is the missing angle?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406" name=""/>
          <p:cNvSpPr/>
          <p:nvPr/>
        </p:nvSpPr>
        <p:spPr>
          <a:xfrm>
            <a:off x="1668600" y="4639680"/>
            <a:ext cx="1691640" cy="12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13" y="153"/>
                </a:moveTo>
                <a:arcTo wR="10800" hR="10800" stAng="-4820065" swAng="4796468"/>
                <a:lnTo>
                  <a:pt x="10800" y="10800"/>
                </a:lnTo>
                <a:close/>
              </a:path>
              <a:path fill="none" w="21600" h="21600">
                <a:moveTo>
                  <a:pt x="12613" y="153"/>
                </a:moveTo>
                <a:arcTo wR="10800" hR="10800" stAng="-4820065" swAng="4796468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7" name=""/>
          <p:cNvSpPr/>
          <p:nvPr/>
        </p:nvSpPr>
        <p:spPr>
          <a:xfrm flipH="1" rot="10800000">
            <a:off x="1775520" y="2226600"/>
            <a:ext cx="115884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34" y="53"/>
                </a:moveTo>
                <a:arcTo wR="10800" hR="10800" stAng="-5739980" swAng="6259784"/>
                <a:lnTo>
                  <a:pt x="10800" y="10800"/>
                </a:lnTo>
                <a:close/>
              </a:path>
              <a:path fill="none" w="21600" h="21600">
                <a:moveTo>
                  <a:pt x="9734" y="53"/>
                </a:moveTo>
                <a:arcTo wR="10800" hR="10800" stAng="-5739980" swAng="6259784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8" name=""/>
          <p:cNvSpPr/>
          <p:nvPr/>
        </p:nvSpPr>
        <p:spPr>
          <a:xfrm flipH="1" rot="16200000">
            <a:off x="4457160" y="2349360"/>
            <a:ext cx="1158840" cy="10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4039920" y="4646520"/>
            <a:ext cx="1371240" cy="122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8" y="1"/>
                </a:moveTo>
                <a:arcTo wR="10800" hR="10800" stAng="-5362583" swAng="5371104"/>
                <a:lnTo>
                  <a:pt x="10800" y="10800"/>
                </a:lnTo>
                <a:close/>
              </a:path>
              <a:path fill="none" w="21600" h="21600">
                <a:moveTo>
                  <a:pt x="10918" y="1"/>
                </a:moveTo>
                <a:arcTo wR="10800" hR="10800" stAng="-5362583" swAng="5371104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0" name=""/>
          <p:cNvSpPr/>
          <p:nvPr/>
        </p:nvSpPr>
        <p:spPr>
          <a:xfrm>
            <a:off x="2592000" y="324972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0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4038480"/>
            <a:ext cx="4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2" name=""/>
          <p:cNvSpPr/>
          <p:nvPr/>
        </p:nvSpPr>
        <p:spPr>
          <a:xfrm>
            <a:off x="3887280" y="324972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0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3" name=""/>
          <p:cNvSpPr/>
          <p:nvPr/>
        </p:nvSpPr>
        <p:spPr>
          <a:xfrm>
            <a:off x="3658680" y="4038480"/>
            <a:ext cx="11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10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4" name=""/>
          <p:cNvSpPr/>
          <p:nvPr/>
        </p:nvSpPr>
        <p:spPr>
          <a:xfrm>
            <a:off x="6553440" y="259092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7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5" name=""/>
          <p:cNvSpPr/>
          <p:nvPr/>
        </p:nvSpPr>
        <p:spPr>
          <a:xfrm>
            <a:off x="6553440" y="31240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7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6" name=""/>
          <p:cNvSpPr/>
          <p:nvPr/>
        </p:nvSpPr>
        <p:spPr>
          <a:xfrm>
            <a:off x="6248160" y="365760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1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7" name=""/>
          <p:cNvSpPr/>
          <p:nvPr/>
        </p:nvSpPr>
        <p:spPr>
          <a:xfrm>
            <a:off x="6859080" y="41911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8" name=""/>
          <p:cNvSpPr/>
          <p:nvPr/>
        </p:nvSpPr>
        <p:spPr>
          <a:xfrm>
            <a:off x="6019920" y="4876920"/>
            <a:ext cx="14475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9" name=""/>
          <p:cNvSpPr/>
          <p:nvPr/>
        </p:nvSpPr>
        <p:spPr>
          <a:xfrm>
            <a:off x="6021000" y="42670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0" name=""/>
          <p:cNvSpPr/>
          <p:nvPr/>
        </p:nvSpPr>
        <p:spPr>
          <a:xfrm>
            <a:off x="6248160" y="480060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905120" y="2819520"/>
            <a:ext cx="3581280" cy="2286000"/>
          </a:xfrm>
          <a:prstGeom prst="parallelogram">
            <a:avLst>
              <a:gd name="adj" fmla="val 39165"/>
            </a:avLst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What is the missing angle?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423" name=""/>
          <p:cNvSpPr/>
          <p:nvPr/>
        </p:nvSpPr>
        <p:spPr>
          <a:xfrm flipH="1" rot="17487000">
            <a:off x="4779360" y="2461680"/>
            <a:ext cx="1158840" cy="10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14" y="2"/>
                </a:moveTo>
                <a:arcTo wR="10800" hR="10800" stAng="-5331810" swAng="5851613"/>
                <a:lnTo>
                  <a:pt x="10800" y="10800"/>
                </a:lnTo>
                <a:close/>
              </a:path>
              <a:path fill="none" w="21600" h="21600">
                <a:moveTo>
                  <a:pt x="11014" y="2"/>
                </a:moveTo>
                <a:arcTo wR="10800" hR="10800" stAng="-5331810" swAng="5851613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4" name=""/>
          <p:cNvSpPr/>
          <p:nvPr/>
        </p:nvSpPr>
        <p:spPr>
          <a:xfrm rot="17179800">
            <a:off x="3931200" y="4641840"/>
            <a:ext cx="1371240" cy="122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8" y="1"/>
                </a:moveTo>
                <a:arcTo wR="10800" hR="10800" stAng="-5362583" swAng="5371104"/>
                <a:lnTo>
                  <a:pt x="10800" y="10800"/>
                </a:lnTo>
                <a:close/>
              </a:path>
              <a:path fill="none" w="21600" h="21600">
                <a:moveTo>
                  <a:pt x="10918" y="1"/>
                </a:moveTo>
                <a:arcTo wR="10800" hR="10800" stAng="-5362583" swAng="5371104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4115880" y="312408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65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6" name=""/>
          <p:cNvSpPr/>
          <p:nvPr/>
        </p:nvSpPr>
        <p:spPr>
          <a:xfrm>
            <a:off x="3430080" y="4114800"/>
            <a:ext cx="11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15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7" name=""/>
          <p:cNvSpPr/>
          <p:nvPr/>
        </p:nvSpPr>
        <p:spPr>
          <a:xfrm>
            <a:off x="2515680" y="411480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65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8" name=""/>
          <p:cNvSpPr/>
          <p:nvPr/>
        </p:nvSpPr>
        <p:spPr>
          <a:xfrm>
            <a:off x="3049560" y="31240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9" name=""/>
          <p:cNvSpPr/>
          <p:nvPr/>
        </p:nvSpPr>
        <p:spPr>
          <a:xfrm>
            <a:off x="6400800" y="259092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65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0" name=""/>
          <p:cNvSpPr/>
          <p:nvPr/>
        </p:nvSpPr>
        <p:spPr>
          <a:xfrm>
            <a:off x="6400800" y="3124080"/>
            <a:ext cx="91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65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365760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15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2" name=""/>
          <p:cNvSpPr/>
          <p:nvPr/>
        </p:nvSpPr>
        <p:spPr>
          <a:xfrm>
            <a:off x="6706800" y="41911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3" name=""/>
          <p:cNvSpPr/>
          <p:nvPr/>
        </p:nvSpPr>
        <p:spPr>
          <a:xfrm>
            <a:off x="5943600" y="4876920"/>
            <a:ext cx="1371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4" name=""/>
          <p:cNvSpPr/>
          <p:nvPr/>
        </p:nvSpPr>
        <p:spPr>
          <a:xfrm>
            <a:off x="5868720" y="41911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5" name=""/>
          <p:cNvSpPr/>
          <p:nvPr/>
        </p:nvSpPr>
        <p:spPr>
          <a:xfrm>
            <a:off x="6095880" y="480060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6" name=""/>
          <p:cNvSpPr/>
          <p:nvPr/>
        </p:nvSpPr>
        <p:spPr>
          <a:xfrm flipH="1" rot="6687000">
            <a:off x="1469160" y="4352040"/>
            <a:ext cx="1158120" cy="10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14" y="2"/>
                </a:moveTo>
                <a:arcTo wR="10800" hR="10800" stAng="-5331810" swAng="5851613"/>
                <a:lnTo>
                  <a:pt x="10800" y="10800"/>
                </a:lnTo>
                <a:close/>
              </a:path>
              <a:path fill="none" w="21600" h="21600">
                <a:moveTo>
                  <a:pt x="11014" y="2"/>
                </a:moveTo>
                <a:arcTo wR="10800" hR="10800" stAng="-5331810" swAng="5851613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7" name=""/>
          <p:cNvSpPr/>
          <p:nvPr/>
        </p:nvSpPr>
        <p:spPr>
          <a:xfrm rot="6379800">
            <a:off x="2081160" y="2125800"/>
            <a:ext cx="1373040" cy="122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92" y="79"/>
                </a:moveTo>
                <a:arcTo wR="10800" hR="10800" stAng="-5817324" swAng="5825845"/>
                <a:lnTo>
                  <a:pt x="10800" y="10800"/>
                </a:lnTo>
                <a:close/>
              </a:path>
              <a:path fill="none" w="21600" h="21600">
                <a:moveTo>
                  <a:pt x="9492" y="79"/>
                </a:moveTo>
                <a:arcTo wR="10800" hR="10800" stAng="-5817324" swAng="582584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What is the missing angle?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439" name=""/>
          <p:cNvSpPr/>
          <p:nvPr/>
        </p:nvSpPr>
        <p:spPr>
          <a:xfrm>
            <a:off x="2133720" y="2895480"/>
            <a:ext cx="2666880" cy="251460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0" name=""/>
          <p:cNvSpPr/>
          <p:nvPr/>
        </p:nvSpPr>
        <p:spPr>
          <a:xfrm>
            <a:off x="1503360" y="4800600"/>
            <a:ext cx="1371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1" name=""/>
          <p:cNvSpPr/>
          <p:nvPr/>
        </p:nvSpPr>
        <p:spPr>
          <a:xfrm flipH="1" rot="10800000">
            <a:off x="1701360" y="2378880"/>
            <a:ext cx="115812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2" name=""/>
          <p:cNvSpPr/>
          <p:nvPr/>
        </p:nvSpPr>
        <p:spPr>
          <a:xfrm flipH="1" rot="16200000">
            <a:off x="4142520" y="2435400"/>
            <a:ext cx="115884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4114800" y="4724640"/>
            <a:ext cx="1371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4" name=""/>
          <p:cNvSpPr/>
          <p:nvPr/>
        </p:nvSpPr>
        <p:spPr>
          <a:xfrm>
            <a:off x="2514600" y="33526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5" name=""/>
          <p:cNvSpPr/>
          <p:nvPr/>
        </p:nvSpPr>
        <p:spPr>
          <a:xfrm>
            <a:off x="2438640" y="42670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6" name=""/>
          <p:cNvSpPr/>
          <p:nvPr/>
        </p:nvSpPr>
        <p:spPr>
          <a:xfrm>
            <a:off x="4038480" y="335268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7" name=""/>
          <p:cNvSpPr/>
          <p:nvPr/>
        </p:nvSpPr>
        <p:spPr>
          <a:xfrm>
            <a:off x="3581640" y="42670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8" name=""/>
          <p:cNvSpPr/>
          <p:nvPr/>
        </p:nvSpPr>
        <p:spPr>
          <a:xfrm>
            <a:off x="6400800" y="27432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9" name=""/>
          <p:cNvSpPr/>
          <p:nvPr/>
        </p:nvSpPr>
        <p:spPr>
          <a:xfrm>
            <a:off x="6400800" y="327672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0" name=""/>
          <p:cNvSpPr/>
          <p:nvPr/>
        </p:nvSpPr>
        <p:spPr>
          <a:xfrm>
            <a:off x="6400800" y="38098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1" name=""/>
          <p:cNvSpPr/>
          <p:nvPr/>
        </p:nvSpPr>
        <p:spPr>
          <a:xfrm>
            <a:off x="6706800" y="43434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2" name=""/>
          <p:cNvSpPr/>
          <p:nvPr/>
        </p:nvSpPr>
        <p:spPr>
          <a:xfrm>
            <a:off x="6019920" y="5029200"/>
            <a:ext cx="12952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3" name=""/>
          <p:cNvSpPr/>
          <p:nvPr/>
        </p:nvSpPr>
        <p:spPr>
          <a:xfrm>
            <a:off x="6021000" y="43434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4" name=""/>
          <p:cNvSpPr/>
          <p:nvPr/>
        </p:nvSpPr>
        <p:spPr>
          <a:xfrm>
            <a:off x="6172200" y="495288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What is the missing angle?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456" name=""/>
          <p:cNvSpPr/>
          <p:nvPr/>
        </p:nvSpPr>
        <p:spPr>
          <a:xfrm>
            <a:off x="6400800" y="24382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58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7" name=""/>
          <p:cNvSpPr/>
          <p:nvPr/>
        </p:nvSpPr>
        <p:spPr>
          <a:xfrm>
            <a:off x="6400800" y="29718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81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8" name=""/>
          <p:cNvSpPr/>
          <p:nvPr/>
        </p:nvSpPr>
        <p:spPr>
          <a:xfrm>
            <a:off x="6095880" y="350532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09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9" name=""/>
          <p:cNvSpPr/>
          <p:nvPr/>
        </p:nvSpPr>
        <p:spPr>
          <a:xfrm>
            <a:off x="6706800" y="40384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0" name=""/>
          <p:cNvSpPr/>
          <p:nvPr/>
        </p:nvSpPr>
        <p:spPr>
          <a:xfrm>
            <a:off x="5943600" y="4724280"/>
            <a:ext cx="12952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1" name=""/>
          <p:cNvSpPr/>
          <p:nvPr/>
        </p:nvSpPr>
        <p:spPr>
          <a:xfrm>
            <a:off x="5792400" y="40384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2" name=""/>
          <p:cNvSpPr/>
          <p:nvPr/>
        </p:nvSpPr>
        <p:spPr>
          <a:xfrm>
            <a:off x="6095880" y="464832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3" name=""/>
          <p:cNvSpPr/>
          <p:nvPr/>
        </p:nvSpPr>
        <p:spPr>
          <a:xfrm rot="366600">
            <a:off x="1676160" y="2438280"/>
            <a:ext cx="3581280" cy="2819520"/>
          </a:xfrm>
          <a:custGeom>
            <a:avLst/>
            <a:gdLst/>
            <a:ahLst/>
            <a:rect l="l" t="t" r="r" b="b"/>
            <a:pathLst>
              <a:path w="2256" h="1776">
                <a:moveTo>
                  <a:pt x="912" y="0"/>
                </a:moveTo>
                <a:lnTo>
                  <a:pt x="1920" y="240"/>
                </a:lnTo>
                <a:lnTo>
                  <a:pt x="2256" y="1536"/>
                </a:lnTo>
                <a:lnTo>
                  <a:pt x="0" y="1776"/>
                </a:lnTo>
                <a:lnTo>
                  <a:pt x="912" y="0"/>
                </a:lnTo>
                <a:close/>
              </a:path>
            </a:pathLst>
          </a:custGeom>
          <a:solidFill>
            <a:srgbClr val="f5cddf"/>
          </a:soli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4" name=""/>
          <p:cNvSpPr/>
          <p:nvPr/>
        </p:nvSpPr>
        <p:spPr>
          <a:xfrm flipH="1" rot="15862200">
            <a:off x="4285080" y="2375280"/>
            <a:ext cx="1159920" cy="108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58" y="669"/>
                </a:moveTo>
                <a:arcTo wR="10800" hR="10800" stAng="-6616472" swAng="6347534"/>
                <a:lnTo>
                  <a:pt x="10800" y="10800"/>
                </a:lnTo>
                <a:close/>
              </a:path>
              <a:path fill="none" w="21600" h="21600">
                <a:moveTo>
                  <a:pt x="7058" y="669"/>
                </a:moveTo>
                <a:arcTo wR="10800" hR="10800" stAng="-6616472" swAng="6347534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5" name=""/>
          <p:cNvSpPr/>
          <p:nvPr/>
        </p:nvSpPr>
        <p:spPr>
          <a:xfrm flipH="1" rot="12758400">
            <a:off x="2691720" y="1798200"/>
            <a:ext cx="1158120" cy="12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42" y="1"/>
                </a:moveTo>
                <a:arcTo wR="10800" hR="10800" stAng="-5354887" swAng="6200241"/>
                <a:lnTo>
                  <a:pt x="10800" y="10800"/>
                </a:lnTo>
                <a:close/>
              </a:path>
              <a:path fill="none" w="21600" h="21600">
                <a:moveTo>
                  <a:pt x="10942" y="1"/>
                </a:moveTo>
                <a:arcTo wR="10800" hR="10800" stAng="-5354887" swAng="6200241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 rot="16891800">
            <a:off x="4271400" y="4549320"/>
            <a:ext cx="1372320" cy="12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2" y="0"/>
                </a:moveTo>
                <a:arcTo wR="10800" hR="10800" stAng="-5399327" swAng="5254885"/>
                <a:lnTo>
                  <a:pt x="10800" y="10800"/>
                </a:lnTo>
                <a:close/>
              </a:path>
              <a:path fill="none" w="21600" h="21600">
                <a:moveTo>
                  <a:pt x="10802" y="0"/>
                </a:moveTo>
                <a:arcTo wR="10800" hR="10800" stAng="-5399327" swAng="525488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 rot="493800">
            <a:off x="867600" y="4347360"/>
            <a:ext cx="1692360" cy="12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13" y="153"/>
                </a:moveTo>
                <a:arcTo wR="10800" hR="10800" stAng="-4820065" swAng="4796468"/>
                <a:lnTo>
                  <a:pt x="10800" y="10800"/>
                </a:lnTo>
                <a:close/>
              </a:path>
              <a:path fill="none" w="21600" h="21600">
                <a:moveTo>
                  <a:pt x="12613" y="153"/>
                </a:moveTo>
                <a:arcTo wR="10800" hR="10800" stAng="-4820065" swAng="4796468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8" name=""/>
          <p:cNvSpPr/>
          <p:nvPr/>
        </p:nvSpPr>
        <p:spPr>
          <a:xfrm>
            <a:off x="3811320" y="403848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81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9" name=""/>
          <p:cNvSpPr/>
          <p:nvPr/>
        </p:nvSpPr>
        <p:spPr>
          <a:xfrm>
            <a:off x="2439720" y="403848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58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0" name=""/>
          <p:cNvSpPr/>
          <p:nvPr/>
        </p:nvSpPr>
        <p:spPr>
          <a:xfrm>
            <a:off x="2820240" y="2895480"/>
            <a:ext cx="11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09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200400"/>
            <a:ext cx="4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Definition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Polygon 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– a closed many straight-sided figure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3429000"/>
            <a:ext cx="2133720" cy="213372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Definition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Angle 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– two rays that meet at a common end point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971800" y="3657240"/>
            <a:ext cx="0" cy="167652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3" name=""/>
          <p:cNvSpPr/>
          <p:nvPr/>
        </p:nvSpPr>
        <p:spPr>
          <a:xfrm>
            <a:off x="2971800" y="5334120"/>
            <a:ext cx="373392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Definition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Degree 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– a unit of measurement of an angle or arc, represented by the symbol º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124080" y="3504960"/>
            <a:ext cx="0" cy="205740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5562720"/>
            <a:ext cx="312444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 rot="904800">
            <a:off x="2716560" y="5061240"/>
            <a:ext cx="9144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84" y="989"/>
                </a:moveTo>
                <a:arcTo wR="10800" hR="10800" stAng="-6883027" swAng="5820093"/>
                <a:lnTo>
                  <a:pt x="10800" y="10800"/>
                </a:lnTo>
                <a:close/>
              </a:path>
              <a:path fill="none" w="21600" h="21600">
                <a:moveTo>
                  <a:pt x="6284" y="989"/>
                </a:moveTo>
                <a:arcTo wR="10800" hR="10800" stAng="-6883027" swAng="5820093"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4419720"/>
            <a:ext cx="91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Definition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Quadrilateral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 – a polygon with 4 angles and 4 straight sides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733920"/>
            <a:ext cx="3962520" cy="213336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Quadrilateral Family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4267080"/>
            <a:ext cx="1143000" cy="111924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5" name=""/>
          <p:cNvSpPr/>
          <p:nvPr/>
        </p:nvSpPr>
        <p:spPr>
          <a:xfrm>
            <a:off x="6781680" y="2514600"/>
            <a:ext cx="1524240" cy="89532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1905120"/>
            <a:ext cx="2895480" cy="1044360"/>
          </a:xfrm>
          <a:prstGeom prst="parallelogram">
            <a:avLst>
              <a:gd name="adj" fmla="val 150177"/>
            </a:avLst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4343400"/>
            <a:ext cx="1600200" cy="1119240"/>
          </a:xfrm>
          <a:prstGeom prst="parallelogram">
            <a:avLst>
              <a:gd name="adj" fmla="val 35743"/>
            </a:avLst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8" name=""/>
          <p:cNvSpPr/>
          <p:nvPr/>
        </p:nvSpPr>
        <p:spPr>
          <a:xfrm>
            <a:off x="826920" y="2421000"/>
            <a:ext cx="1524240" cy="1119240"/>
          </a:xfrm>
          <a:custGeom>
            <a:avLst/>
            <a:gdLst>
              <a:gd name="textAreaLeft" fmla="*/ 335160 w 1524240"/>
              <a:gd name="textAreaRight" fmla="*/ 1189080 w 1524240"/>
              <a:gd name="textAreaTop" fmla="*/ 245880 h 1119240"/>
              <a:gd name="textAreaBottom" fmla="*/ 873360 h 11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9" name=""/>
          <p:cNvSpPr/>
          <p:nvPr/>
        </p:nvSpPr>
        <p:spPr>
          <a:xfrm>
            <a:off x="2592000" y="289548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arallelogram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0" name=""/>
          <p:cNvSpPr/>
          <p:nvPr/>
        </p:nvSpPr>
        <p:spPr>
          <a:xfrm>
            <a:off x="6553800" y="3352680"/>
            <a:ext cx="204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rectangle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2363400" y="5410080"/>
            <a:ext cx="19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rhombus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5259240" y="533412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quare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457920" y="3505320"/>
            <a:ext cx="20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rapezoid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Property of quadrilaterals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The sum of all the angles equals 360º degrees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3276720"/>
            <a:ext cx="4876920" cy="251460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7" name=""/>
          <p:cNvSpPr/>
          <p:nvPr/>
        </p:nvSpPr>
        <p:spPr>
          <a:xfrm>
            <a:off x="1578960" y="5181480"/>
            <a:ext cx="1371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8" name=""/>
          <p:cNvSpPr/>
          <p:nvPr/>
        </p:nvSpPr>
        <p:spPr>
          <a:xfrm flipH="1" rot="10800000">
            <a:off x="1777320" y="2760480"/>
            <a:ext cx="1158840" cy="12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9" name=""/>
          <p:cNvSpPr/>
          <p:nvPr/>
        </p:nvSpPr>
        <p:spPr>
          <a:xfrm flipH="1" rot="16200000">
            <a:off x="6428880" y="2816280"/>
            <a:ext cx="115812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6400800" y="5105520"/>
            <a:ext cx="1371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35812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2" name=""/>
          <p:cNvSpPr/>
          <p:nvPr/>
        </p:nvSpPr>
        <p:spPr>
          <a:xfrm>
            <a:off x="2819520" y="47242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3" name=""/>
          <p:cNvSpPr/>
          <p:nvPr/>
        </p:nvSpPr>
        <p:spPr>
          <a:xfrm>
            <a:off x="5639040" y="35812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4" name=""/>
          <p:cNvSpPr/>
          <p:nvPr/>
        </p:nvSpPr>
        <p:spPr>
          <a:xfrm>
            <a:off x="5639040" y="48006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Property of Quadrilaterals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The sum of all the angles equals 360º degrees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3352680"/>
            <a:ext cx="4876920" cy="251460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8" name=""/>
          <p:cNvSpPr/>
          <p:nvPr/>
        </p:nvSpPr>
        <p:spPr>
          <a:xfrm>
            <a:off x="512640" y="5257800"/>
            <a:ext cx="1371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9" name=""/>
          <p:cNvSpPr/>
          <p:nvPr/>
        </p:nvSpPr>
        <p:spPr>
          <a:xfrm flipH="1" rot="10800000">
            <a:off x="710640" y="2836080"/>
            <a:ext cx="115884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0" name=""/>
          <p:cNvSpPr/>
          <p:nvPr/>
        </p:nvSpPr>
        <p:spPr>
          <a:xfrm flipH="1" rot="16200000">
            <a:off x="5362560" y="2892600"/>
            <a:ext cx="1158840" cy="12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5334120" y="5181480"/>
            <a:ext cx="13712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36576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3" name=""/>
          <p:cNvSpPr/>
          <p:nvPr/>
        </p:nvSpPr>
        <p:spPr>
          <a:xfrm>
            <a:off x="1752840" y="48006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6576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87692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6" name=""/>
          <p:cNvSpPr/>
          <p:nvPr/>
        </p:nvSpPr>
        <p:spPr>
          <a:xfrm>
            <a:off x="7315200" y="28954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7" name=""/>
          <p:cNvSpPr/>
          <p:nvPr/>
        </p:nvSpPr>
        <p:spPr>
          <a:xfrm>
            <a:off x="7315200" y="34290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396252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44956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0" name=""/>
          <p:cNvSpPr/>
          <p:nvPr/>
        </p:nvSpPr>
        <p:spPr>
          <a:xfrm>
            <a:off x="6934320" y="5181480"/>
            <a:ext cx="12952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1" name=""/>
          <p:cNvSpPr/>
          <p:nvPr/>
        </p:nvSpPr>
        <p:spPr>
          <a:xfrm>
            <a:off x="6859080" y="44956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2" name=""/>
          <p:cNvSpPr/>
          <p:nvPr/>
        </p:nvSpPr>
        <p:spPr>
          <a:xfrm>
            <a:off x="7086600" y="510552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Property of Quadrilaterals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The sum of all the angles equals 360º degrees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3352680"/>
            <a:ext cx="2666880" cy="251460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6" name=""/>
          <p:cNvSpPr/>
          <p:nvPr/>
        </p:nvSpPr>
        <p:spPr>
          <a:xfrm>
            <a:off x="1503360" y="5257800"/>
            <a:ext cx="1371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7" name=""/>
          <p:cNvSpPr/>
          <p:nvPr/>
        </p:nvSpPr>
        <p:spPr>
          <a:xfrm flipH="1" rot="10800000">
            <a:off x="1701360" y="2836080"/>
            <a:ext cx="115812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8" name=""/>
          <p:cNvSpPr/>
          <p:nvPr/>
        </p:nvSpPr>
        <p:spPr>
          <a:xfrm flipH="1" rot="16200000">
            <a:off x="4142520" y="2892600"/>
            <a:ext cx="115884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4114800" y="5181840"/>
            <a:ext cx="1371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8098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1" name=""/>
          <p:cNvSpPr/>
          <p:nvPr/>
        </p:nvSpPr>
        <p:spPr>
          <a:xfrm>
            <a:off x="2438640" y="47242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2" name=""/>
          <p:cNvSpPr/>
          <p:nvPr/>
        </p:nvSpPr>
        <p:spPr>
          <a:xfrm>
            <a:off x="3505320" y="38098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3" name=""/>
          <p:cNvSpPr/>
          <p:nvPr/>
        </p:nvSpPr>
        <p:spPr>
          <a:xfrm>
            <a:off x="3581640" y="47242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28954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5" name=""/>
          <p:cNvSpPr/>
          <p:nvPr/>
        </p:nvSpPr>
        <p:spPr>
          <a:xfrm>
            <a:off x="6400800" y="34290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6" name=""/>
          <p:cNvSpPr/>
          <p:nvPr/>
        </p:nvSpPr>
        <p:spPr>
          <a:xfrm>
            <a:off x="6400800" y="396252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7" name=""/>
          <p:cNvSpPr/>
          <p:nvPr/>
        </p:nvSpPr>
        <p:spPr>
          <a:xfrm>
            <a:off x="6400800" y="44956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5181480"/>
            <a:ext cx="12952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9" name=""/>
          <p:cNvSpPr/>
          <p:nvPr/>
        </p:nvSpPr>
        <p:spPr>
          <a:xfrm>
            <a:off x="5944680" y="44956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0" name=""/>
          <p:cNvSpPr/>
          <p:nvPr/>
        </p:nvSpPr>
        <p:spPr>
          <a:xfrm>
            <a:off x="6172200" y="510552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05:02:54Z</dcterms:created>
  <dc:creator>Monica/Bob Yuskaitis</dc:creator>
  <dc:description/>
  <dc:language>en-US</dc:language>
  <cp:lastModifiedBy>utente</cp:lastModifiedBy>
  <cp:lastPrinted>2007-12-10T16:24:22Z</cp:lastPrinted>
  <dcterms:modified xsi:type="dcterms:W3CDTF">2007-12-10T16:27:33Z</dcterms:modified>
  <cp:revision>9</cp:revision>
  <dc:subject/>
  <dc:title>Triangles I</dc:title>
</cp:coreProperties>
</file>